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485-D45C-4F7E-B5E4-68CF5AC4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282-21AD-4529-A2BF-D6D490C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915-C78C-404D-8AE8-99A211F3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6ED-74DC-4233-A742-BA5B0D39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411-A63B-483A-97E4-1FAF290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08A-D280-4932-8C55-578B5AD5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936-DA64-4565-A1FC-9602447C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9BC-7902-49C5-8F6F-EA9DA3B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475-6F21-444E-AAF7-024D0D6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8CD-C48B-4845-A0A1-AAA036C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2E6-4FA8-41C9-9B51-2A8934F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C23-0C8F-4C3B-9A94-C6F6681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1C76-321B-4580-866F-3A6CE15B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ntasymaps.files.wordpress.com/2008/05/crossection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tasymaps.files.wordpress.com/2008/05/map3d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Pyra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yramid at Saqqa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t for Pharaoh Djo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Pyramid at Giz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for Khufu/Cheop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80 – 2657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Pyramid Cross-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524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Pyramid Cross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7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of the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ple of Abu Simb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t for Pharaoh Rams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04:33Z</dcterms:created>
  <dc:creator>jomccasland</dc:creator>
  <dc:description/>
  <dc:language>en-US</dc:language>
  <cp:lastModifiedBy>jomccasland</cp:lastModifiedBy>
  <dcterms:modified xsi:type="dcterms:W3CDTF">2009-10-19T13:50:31Z</dcterms:modified>
  <cp:revision>2</cp:revision>
  <dc:subject/>
  <dc:title>Building The Pyramids</dc:title>
</cp:coreProperties>
</file>